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tif" ContentType="image/tiff"/>
  <Override PartName="/ppt/media/image6.png" ContentType="image/png"/>
  <Override PartName="/ppt/media/image3.tif" ContentType="image/tiff"/>
  <Override PartName="/ppt/media/image7.png" ContentType="image/png"/>
  <Override PartName="/ppt/media/image4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779E3-BF31-4B6D-9BEE-D6FAC755B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3B7414-3555-416B-933D-044D5176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EA595B-D1C9-4584-90C0-E9609CBC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25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8729E3-E1C3-48EE-AAA9-148B87C6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57AA76-B579-4972-8729-775843C41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BCF77F-CCF0-4E61-A345-D640157B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974-9646-4656-BBBC-A94B16B7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A32-9599-4323-9147-8745A2C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884-7481-41AF-B731-EE510E9C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BE7-AEB7-4601-82B7-0D54F05E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447C-C627-4D33-864E-B539225B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E39-1D5B-480A-943B-9FD6CE7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2ECA-C415-469A-8DCD-1CF8E40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E11-772F-4D87-84A6-6F68AFF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DB93-4B4F-4412-B6F7-729733A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26BB-683F-48B0-B693-FAA91E7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7B4-1C2E-49D1-950D-6DD2CC9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47D-B705-43C3-A1B3-C2E6360B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00DD-2D26-42F2-98CD-9DBB3D7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2FAB-C514-41E7-9275-71155A38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71F-D775-40FB-B60B-8A71B6A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3B2-33A6-4BF2-97CB-97481B27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068-E329-4D83-B50F-AEF9101D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04D-C738-4EC6-80B7-EAE5EB8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47D-CEC9-4B73-9F2B-15DF1090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B14-9936-42E4-962E-18E52722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E5D-CF1C-4100-B944-212B7D79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A2E-A595-4118-A154-1D1A3CD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7DA-E3FF-4E4B-9338-1EFFF50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5C3-4ED1-40FD-8056-B024945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Lucida Sans Unicode"/>
                <a:ea typeface="ＭＳ Ｐゴシック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493ED-DD62-4B3C-A6E7-DB6D2D10853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CC0CFC-FF09-47D3-84BF-667E6885A3F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TDDRetreat/weddell1deg.mov" TargetMode="External"/><Relationship Id="rId2" Type="http://schemas.microsoft.com/office/2007/relationships/media" Target="file://localhost/Users/dennis/Desktop/Work/TDDRetreat/weddell1deg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NSF/cice.h264.5.23.11.mov" TargetMode="External"/><Relationship Id="rId2" Type="http://schemas.microsoft.com/office/2007/relationships/media" Target="file://localhost/Users/dennis/Desktop/Work/NSF/cice.h264.5.23.11.mo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8532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SDCI Net: An integrated study of datacenter network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ohn Denn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0"/>
          </p:nvPr>
        </p:nvSpPr>
        <p:spPr>
          <a:xfrm>
            <a:off x="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C5E1DD-3AF0-42DA-B847-06A24A97D1A3}" type="datetime1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/30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11"/>
          </p:nvPr>
        </p:nvSpPr>
        <p:spPr>
          <a:xfrm>
            <a:off x="815328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E82C0E-62E7-4E4D-B2B9-88CDC430579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44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ssues/challenges with run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y large variability with I/O performan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-10x slowdown comm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00x slowdown was observ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ference with other job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7AC3-B79F-4697-A209-AAF3AE2732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D15ED7-72CA-46B4-B77D-15D4ACC30E6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6" descr="etime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1430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Execution time for non-I/O CESM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53760" y="5638680"/>
            <a:ext cx="844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contention/congestion in message passing ne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ACB-86FE-44DF-B864-67BFED9E3F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EFEA47E-9EAC-4792-9730-65E3CD48B933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6" descr="band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rite bandwidth for CESM I/O d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2666880" y="5486400"/>
            <a:ext cx="5745600" cy="1064880"/>
            <a:chOff x="2666880" y="5486400"/>
            <a:chExt cx="5745600" cy="1064880"/>
          </a:xfrm>
        </p:grpSpPr>
        <p:cxnSp>
          <p:nvCxnSpPr>
            <p:cNvPr id="138" name="Straight Arrow Connector 8"/>
            <p:cNvCxnSpPr/>
            <p:nvPr/>
          </p:nvCxnSpPr>
          <p:spPr>
            <a:xfrm flipH="1" flipV="1">
              <a:off x="2666880" y="5486400"/>
              <a:ext cx="762480" cy="762120"/>
            </a:xfrm>
            <a:prstGeom prst="straightConnector1">
              <a:avLst/>
            </a:prstGeom>
            <a:ln>
              <a:solidFill>
                <a:srgbClr val="2da2bf"/>
              </a:solidFill>
              <a:round/>
              <a:tailEnd len="med" type="arrow" w="med"/>
            </a:ln>
          </p:spPr>
        </p:cxnSp>
        <p:sp>
          <p:nvSpPr>
            <p:cNvPr id="139" name="TextBox 9"/>
            <p:cNvSpPr/>
            <p:nvPr/>
          </p:nvSpPr>
          <p:spPr>
            <a:xfrm>
              <a:off x="3455280" y="6095880"/>
              <a:ext cx="495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at happened on April 26, 2009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06F6-E79D-43ED-BB43-D1410B0ED0F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F5A5E5E-7255-4A7E-9335-C66ED59E62D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6" descr="fig6.png"/>
          <p:cNvPicPr/>
          <p:nvPr/>
        </p:nvPicPr>
        <p:blipFill>
          <a:blip r:embed="rId1"/>
          <a:srcRect l="-24578" t="0" r="-24578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rallel I/O variability on Krak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C9B5-7F53-4D98-8B02-905228D3C7E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6669C1-967C-49C8-A1D9-F0B91870322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taApps: TRAC-2, 28M CPU hours, ~120 TB, NICS, [2011-2012]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AC, 590M CPU hours, ~6,000 TB, NCSA, [2012-2013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 Re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DAC, 7M CPU hours, ~51 TB, NER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n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eakthrough Science, 45M CPU hours, 200 TB, NW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tential climate experi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DA2D-608A-48E4-AD7D-2DAA195A27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45E21B-3AD6-4AA5-B189-4A9EAA64000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R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 (NCAR-Wyoming Supercomputer Cent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k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r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lorado State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California Berkl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orge Mason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Miam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Washingt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xas A&amp;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Hawa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ods Hole Oceanographic Institu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Potential climate experiments (con’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7CF-7EF9-4657-95B7-E102453D0F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69066F-65A8-4734-95E8-F9348051AEF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gure gridFTP logging for data collection [Fall,Winter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te in 100Gb ANI testbed work [Dec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l profiling of MPI applications [Jan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analysis of MPI application profiling [March – July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gridFTP usage data [Jan – Sept 2012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imeline for 1st-ye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5DA7-5886-454F-9F6D-A32EBD0163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D31639-C321-4439-80BC-3DBC96078E9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A92-1F31-41D8-8A8C-904FE877BF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9974A-5FCF-46DC-B296-3C2B10F60FF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481400"/>
            <a:ext cx="4266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54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LNL Grand Challenge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2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ader [PI] , McClean, Ivanova, Boyle (LL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Vertenstein, Craig, Norto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ones (L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Worley (OR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acob (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0 year run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igh-Resolution 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CSM/CES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266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62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F 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nter [PI], Stan (COLA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Teragrid Allocation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35M SU (2009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8M SU (2011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155 year control run + several 50 year branche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55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9274-D4EE-43F3-A3D1-F1520E16C6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263B44-1DF1-49C7-91CA-69D66F85306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PCC &amp; AR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82440"/>
            <a:ext cx="792432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governmental Panel on Climate Change (IPC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7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IPCC assesses the scientific, technical and socio-economical information relevant for the understanding of the risk of human-induced climate chang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fth Assessment Report (AR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SM pl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ro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run x 130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storica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0 runs x 5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80 runs x 9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,600 years of simulation/ 564 TB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D767-83C8-4C26-8A5B-1EDD4FC5A7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462880-5645-4687-AD7C-A7C81E1F020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7" descr="CESM-overview.tiff"/>
          <p:cNvPicPr/>
          <p:nvPr/>
        </p:nvPicPr>
        <p:blipFill>
          <a:blip r:embed="rId1"/>
          <a:stretch/>
        </p:blipFill>
        <p:spPr>
          <a:xfrm>
            <a:off x="-609480" y="304920"/>
            <a:ext cx="9753120" cy="609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5EFF-9E08-4AD4-AA9F-B6A80F053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E6903F-0104-4553-BBF8-AE8A771E781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mate Modeling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upled models Atmosphere-Ocean-Sea Ice-L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llenges of clim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many years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resolution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paralle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munity Earth System Model (CES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1720" indent="0">
              <a:lnSpc>
                <a:spcPct val="9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ly: Community Climate System Model (CCS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CAA5-57E7-42BC-B4F5-13564AE444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01CD8B-98E6-41D6-8D2C-4EABADE88B3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NCAR: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D. Baile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F. Bry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T. Craig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B. Ea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Edwards [IBM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Hear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Lindsa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Nor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M. Vertenstei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COLA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Kinter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St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Miami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640" spc="-1" strike="noStrike">
                <a:solidFill>
                  <a:srgbClr val="000000"/>
                </a:solidFill>
                <a:latin typeface="Arial"/>
                <a:ea typeface="Chalkboard"/>
              </a:rPr>
              <a:t>B. Kirtman</a:t>
            </a:r>
            <a:endParaRPr b="0" lang="en-US" sz="164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C. Berkeley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W. Collin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Yelick (NERSC)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Washington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Bitz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4038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Grant Support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FC03-97ER62402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PS02-07ER07-06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NSF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operative Grant NSF01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OCI-0749206 [PetaApps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1498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873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985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mputer Allocations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eraGrid TRAC @ NIC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 INCITE @ NERSC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LLNL Grand Challenge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hanks for Assistanc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ray, NICS, and NERSC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90920" y="1523880"/>
            <a:ext cx="2819160" cy="434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Fa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Kov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Jac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L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E. Hu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J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Maltr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L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B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Iva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J. McClean (Scri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A. Mi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ORN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Wor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578320" y="5943600"/>
            <a:ext cx="2602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halkboard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FDD9-EF92-4950-9C69-5BF149ADFA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1E87DE-9D7B-421F-9407-A9B7272FAE6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6" descr="CESM-usage.tiff"/>
          <p:cNvPicPr/>
          <p:nvPr/>
        </p:nvPicPr>
        <p:blipFill>
          <a:blip r:embed="rId1"/>
          <a:stretch/>
        </p:blipFill>
        <p:spPr>
          <a:xfrm>
            <a:off x="0" y="304920"/>
            <a:ext cx="9143640" cy="6095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C255-AFEA-4F09-B1CD-D7E03F1DE1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902486-A176-4F31-A2A6-F8FA62B8245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How to efficient utilize very large comput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27B-C68B-4237-9D2B-DB22D17901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2C80E-6729-4AC7-AAE8-7A5D62FE7713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NSF PetaApps project (OCI-0792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ter, Stan (COL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ltra-High resolution clim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impact of weather noise on Clima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technical/Computer Science issu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~99,000 core Cray XT5 system at NICS [Krake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 TG allocat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5M CPU hours [2009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8M CPU hours [2011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C33B-5F9F-4900-BA42-9C750D211C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789628-2B1B-4BB7-9588-3CDCCDFC490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eddell Sea: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ce thickness (1°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35000" y="1882800"/>
            <a:ext cx="5270040" cy="39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07CE-13AA-4C27-9E8D-634C2AF2C9D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AFD517-D5C8-489E-8BF4-92542F44323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C1A-6F25-4C6B-8E63-186C1D04302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FEDDFA9-1494-4BCB-997B-0E60C156F11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9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 configur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Ocean model [3600 x 2400 x 42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 Sea-ice model [3600 x 2400 x 20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Atmosphere  [576 x 384 x 26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Land  [576 x 384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8M CPU hou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844 cores for 4-5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00 TB of data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 to 1 TB per wall clock day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9120" y="107640"/>
            <a:ext cx="83610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7"/>
          <p:cNvGrpSpPr/>
          <p:nvPr/>
        </p:nvGrpSpPr>
        <p:grpSpPr>
          <a:xfrm>
            <a:off x="6007320" y="2971800"/>
            <a:ext cx="3044520" cy="1522080"/>
            <a:chOff x="6007320" y="2971800"/>
            <a:chExt cx="3044520" cy="1522080"/>
          </a:xfrm>
        </p:grpSpPr>
        <p:sp>
          <p:nvSpPr>
            <p:cNvPr id="121" name="Right Bracket 16"/>
            <p:cNvSpPr/>
            <p:nvPr/>
          </p:nvSpPr>
          <p:spPr>
            <a:xfrm>
              <a:off x="6934320" y="2971800"/>
              <a:ext cx="75960" cy="685440"/>
            </a:xfrm>
            <a:prstGeom prst="rightBracket">
              <a:avLst>
                <a:gd name="adj" fmla="val 8333"/>
              </a:avLst>
            </a:prstGeom>
            <a:noFill/>
            <a:ln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  <p:sp>
          <p:nvSpPr>
            <p:cNvPr id="122" name="TextBox 7"/>
            <p:cNvSpPr/>
            <p:nvPr/>
          </p:nvSpPr>
          <p:spPr>
            <a:xfrm>
              <a:off x="6007320" y="4038480"/>
              <a:ext cx="3044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4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H="1" flipV="1">
              <a:off x="7162560" y="3352680"/>
              <a:ext cx="6861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</p:grpSp>
      <p:grpSp>
        <p:nvGrpSpPr>
          <p:cNvPr id="124" name="Group 24"/>
          <p:cNvGrpSpPr/>
          <p:nvPr/>
        </p:nvGrpSpPr>
        <p:grpSpPr>
          <a:xfrm>
            <a:off x="5503680" y="1371600"/>
            <a:ext cx="3382920" cy="1599840"/>
            <a:chOff x="5503680" y="1371600"/>
            <a:chExt cx="3382920" cy="1599840"/>
          </a:xfrm>
        </p:grpSpPr>
        <p:sp>
          <p:nvSpPr>
            <p:cNvPr id="125" name="TextBox 6"/>
            <p:cNvSpPr/>
            <p:nvPr/>
          </p:nvSpPr>
          <p:spPr>
            <a:xfrm>
              <a:off x="5503680" y="1371600"/>
              <a:ext cx="33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100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Straight Arrow Connector 13"/>
            <p:cNvCxnSpPr/>
            <p:nvPr/>
          </p:nvCxnSpPr>
          <p:spPr>
            <a:xfrm flipH="1">
              <a:off x="7924680" y="1904760"/>
              <a:ext cx="4575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  <p:sp>
          <p:nvSpPr>
            <p:cNvPr id="127" name="Right Bracket 22"/>
            <p:cNvSpPr/>
            <p:nvPr/>
          </p:nvSpPr>
          <p:spPr>
            <a:xfrm>
              <a:off x="7772400" y="2057400"/>
              <a:ext cx="72720" cy="914040"/>
            </a:xfrm>
            <a:prstGeom prst="rightBracket">
              <a:avLst>
                <a:gd name="adj" fmla="val 8333"/>
              </a:avLst>
            </a:prstGeom>
            <a:noFill/>
            <a:ln w="38100"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EE6-0A3A-4B84-AE44-81107D00FD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EB1935-3713-4DDB-AB57-E58CF060E65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8361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 (con’t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fl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on Kraken (NIC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er output from NICS to NCAR (100 – 180 MB/sec sustaine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chive on HP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nalysis using 55 TB project space at NC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72CC-56BD-4FA3-8F2A-E96FD089E9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D68C17-E30B-47BF-9F89-5EB69CD5ED5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.thmx</Template>
  <TotalTime>5091</TotalTime>
  <Application>LibreOffice/7.4.7.2$Linux_X86_64 LibreOffice_project/40$Build-2</Application>
  <AppVersion>15.0000</AppVersion>
  <Words>1043</Words>
  <Paragraphs>231</Paragraphs>
  <Company>John Denn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42:27Z</dcterms:created>
  <dc:creator>John Dennis</dc:creator>
  <dc:description/>
  <dc:language>en-US</dc:language>
  <cp:lastModifiedBy>John Dennis</cp:lastModifiedBy>
  <dcterms:modified xsi:type="dcterms:W3CDTF">2011-09-30T15:54:19Z</dcterms:modified>
  <cp:revision>103</cp:revision>
  <dc:subject/>
  <dc:title>Scaling CCSM to a Petascal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